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2D8-911C-469F-908F-C905B1A5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223-FB04-49C6-8229-3382DD8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4D4-5F43-4BB7-AD1C-B5FD6553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1AB-CB26-41FB-BEAC-B4B9827C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4DD8-3D87-4E4F-888B-5920D06C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4537-2892-46DC-A401-C13C095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DA7-15C1-4B1D-B62D-C012F11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9F9-5240-4497-9BFE-64F1BDD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6FB-861C-426A-90AB-A085973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E71A-4341-494C-8A69-B5C2379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BB34-A1A0-4975-A20C-3D1902F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E5B-705B-49AF-A469-EB26F31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067-F9A2-43B7-A318-C257EF1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005-CDE7-4B4B-BFCC-2B21962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D0F5-DD4E-467F-A1EC-009BB9B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B81-1CD1-4D80-AC23-8180B0CC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C426-1A14-43CE-AD30-8BE61F8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504-B466-4BF8-A910-F8C636BF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C97-D721-4236-9005-94201565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056-4E23-4CFC-9723-1345314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12E-22AE-4C12-87A5-CC44EF9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858-F995-4EC1-AA6A-9DAD07A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6B7-0A7E-450A-B4E0-5DC082E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D86-BE36-438A-A3C1-10DB6B6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69E38-6606-4B24-B458-E79C2D5B838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D4324-4AA1-48C6-A752-C7BF32D7831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2C6F0-BDB9-4E48-8275-F3B460A48E5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A18B4-5830-4131-BCF0-CC09CD03D72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iumphs and Travails of Jeffersonian Republic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Chapter 11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1800-1812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poleon convinced king of Spain to give Louisiana land area to France in 18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ds Monroe to join Livingston in France to buy as much lands as they could for 10 mill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poleon gives up dream of world empire &amp; agrees to sell for 2 reas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ailed to re-conquer island of Santo-Domingo (LA to serve as source of foodstuffs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ritain controlled seas; didn’t want to give LA to Britain; would rather have US mone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Livingston &amp; James Monroe negotiated in Paris for the Louisiana land are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gned  treaty on April 30, 1803 ceding Louisiana to the United States for $15 mill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mericans signed 3 treaties and got much land to the west of the Mississippi.  820,000 square miles at 3 cents/ac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t his personal secretary, Meriwether Lewis, and William Clark to explore the northern part of the Louisiana Purchas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41200" y="925560"/>
            <a:ext cx="872172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 Purcha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ubled size of United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ict constructioni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cedent: acquisition of foreign territory by purcha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wis &amp; Clark: 2 ½ year expedi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cientific observation of Indians in the reg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mmense herds of buffalo, elk, deer, and antelope feeding in one common and boundless pasture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7581960" y="108000"/>
            <a:ext cx="15620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aron Burr Conspiraci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ropped from cabinet during Jefferson’s second te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otted secession of New England &amp; New Yor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milton exposed the plo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urr challenges Hamilton to a duel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urr kills Hamilton w/ one sho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ads to demise of his political career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0" name="Picture 5" descr="320px-Hamilton-burr-duel"/>
          <p:cNvPicPr/>
          <p:nvPr/>
        </p:nvPicPr>
        <p:blipFill>
          <a:blip r:embed="rId2"/>
          <a:stretch/>
        </p:blipFill>
        <p:spPr>
          <a:xfrm>
            <a:off x="6364440" y="4938840"/>
            <a:ext cx="27795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rr Conspiracy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General James Wilkins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corrupt military governor of Louisiana Territo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nned (w/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urr)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 to separate the western part of the United States from the East &amp;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nvade Spanish-controlled Mexico and Florid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trayed Burr when he learned that Jefferson knew of the plo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urr was acquitted of the charges of treason by Marshall &amp; he fled to Europe.                            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utral Americ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reelected in 1804 by a HUGE margin (162-14; Charles Pinckney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gland: power of seas; France: power of Land; America: neutral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rders in Counci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, 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80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closed the European ports under French control to foreign shipping (includes American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 way to trade w/ either nation without fighting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ressmen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5" name="Picture 5" descr="350px-Slaget_p%C3%A5_reden"/>
          <p:cNvPicPr/>
          <p:nvPr/>
        </p:nvPicPr>
        <p:blipFill>
          <a:blip r:embed="rId2"/>
          <a:stretch/>
        </p:blipFill>
        <p:spPr>
          <a:xfrm>
            <a:off x="6872400" y="30240"/>
            <a:ext cx="22716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5" descr="vc199"/>
          <p:cNvPicPr/>
          <p:nvPr/>
        </p:nvPicPr>
        <p:blipFill>
          <a:blip r:embed="rId2"/>
          <a:stretch/>
        </p:blipFill>
        <p:spPr>
          <a:xfrm>
            <a:off x="1265400" y="425520"/>
            <a:ext cx="6443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mbarg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ak navy &amp; weak arm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Embargo Act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orbade the export of all goods from the United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eaceful coerc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were the effects of the Embargo Act in the United Stat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Non-Intercourse Act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ormally reopened trade with all nations of the world except France &amp; Britai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places Embargo Ac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effective; leads to War of 181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did the Embargo fail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derestimated determination of the Britis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verestimated the dependence of Britain and France on American trad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scalculated unpopularity &amp; difficulty of enforcemen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3" name="Picture 5" descr="jefferson-ograbme"/>
          <p:cNvPicPr/>
          <p:nvPr/>
        </p:nvPicPr>
        <p:blipFill>
          <a:blip r:embed="rId2"/>
          <a:stretch/>
        </p:blipFill>
        <p:spPr>
          <a:xfrm>
            <a:off x="3338640" y="3730680"/>
            <a:ext cx="42703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ederalists vs. Republica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lection of 1800: Jefferson vs. Ada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ispering campaign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Jefferson accused of having an affair w/ one of his sla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ally Heming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097160" y="3236760"/>
            <a:ext cx="25146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dis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ames Madison became president on March 4, 1809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con’s Bill No. 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itish refuse to revoke Orders in Council (had control of se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ison reestablished embargo against Britain al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d of American neutrality 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War of 18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6" name="Picture 5" descr="220px-James_Madison"/>
          <p:cNvPicPr/>
          <p:nvPr/>
        </p:nvPicPr>
        <p:blipFill>
          <a:blip r:embed="rId2"/>
          <a:stretch/>
        </p:blipFill>
        <p:spPr>
          <a:xfrm>
            <a:off x="7402680" y="4737240"/>
            <a:ext cx="1741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ecumseh &amp; The Prophe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r Haw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cumseh &amp; The Prophet (Tenskatawa) unified Indian tribes in a last-ditch battle w/ settlers; allied w/ Britis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ttle of Tippecano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illiam Henry Harrison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797440" y="3149640"/>
            <a:ext cx="2793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r. Madison’s War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 June 1, 1812, Madison asked Congress to declare war on the British &amp; it agre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Democratic-Republicans who supported the war ("war hawks") felt that the country had to assert American rights to the worl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anted to invade Canada, the Indians' stronghold, bc the Indians were being armed by British to attack the settler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Federalists were opposed because they supported Britai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758960" y="316080"/>
            <a:ext cx="551988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ion of 1800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wins by majorit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aron Burr serves as vice presid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ied w/ Jefferson in electoral colleg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ecision goes to House of Representatives, choose Jeffers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olution of 1800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throw of Federali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irst party overtu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940280" y="3854520"/>
            <a:ext cx="36511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647800" y="108000"/>
            <a:ext cx="4554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effersonian Restraint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rdoned prisoners of Alien &amp; Sedition Ac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Naturalization Law of 180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reduced requirement of 14 years of residence to previous 5 yea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d away w/ excise tax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Albert Gallati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Secretary of Treasury to Jefferson;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elieved national debt wasn't a bles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duced the national debt w/ strict econom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udici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udiciary Act of 180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dnight Jud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cking” to entrench their party in judiciary branc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ohn Marshall- Federalist judge who was not remov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ames Madison- New secretary of s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956280" y="4245120"/>
            <a:ext cx="19098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rbury v. Madis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44480" y="1444320"/>
            <a:ext cx="804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ison cut judge Marbury's salary; Marbury sued James Madison for his pa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urt ruled that Marbury had right to his pay but court did not have the authority to force Madison to give Marbury his pa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ision showed that the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Supreme Court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d the final authority in determining the meaning of the Constitution (JUDICIAL REVIEW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132000" y="5081760"/>
            <a:ext cx="259092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efferson, A Reluctant Warrio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military small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rbary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ader of Tripoli informally declared war on the United States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t navy to Tripoli &amp; after 4 years of fighting, a deal was reached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.S. paid Tripoli $60,000 for the release of captured America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370560" y="5243400"/>
            <a:ext cx="23925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09:12Z</dcterms:created>
  <dc:creator>Emily Johnson</dc:creator>
  <dc:description/>
  <dc:language>en-US</dc:language>
  <cp:lastModifiedBy>emily.johnson</cp:lastModifiedBy>
  <dcterms:modified xsi:type="dcterms:W3CDTF">2012-10-19T11:59:11Z</dcterms:modified>
  <cp:revision>8</cp:revision>
  <dc:subject/>
  <dc:title>Triumphs and Travails of Jeffersonian Republic </dc:title>
</cp:coreProperties>
</file>